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EB67-02DE-47E5-B0F4-C14A031C7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E1B0-0CB0-4445-8309-22624540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DEC-059F-42AC-9529-D64BF0D1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9ADD-63F4-4C1B-8B82-799D0AE5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F3B-C6FA-44AF-9592-50D7AC88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8DA-F081-4858-9874-D491F511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F1D-52AC-467B-8DCC-4935A729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9EB-254E-489C-A8F7-78F7E211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A173-65C9-4F5F-B9C1-30E00298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748-8E2B-4543-8C41-B484C725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6F2-9CF5-4E3F-92C2-A75E2CDF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379-8ACB-4F16-9D48-BDDAE668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605C-FFBA-437F-94F9-15D2B192D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114800" y="304920"/>
            <a:ext cx="43005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ESPRESS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99072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uon Giorno, Matteo.  Come sta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ne grazie, e t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ne, grazie.  Facciamo qualco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i, che co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erca le lettere.  Cerca la “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ccola qu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olto bene!  Cerca la “r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” come r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ravissim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razi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14800" y="304920"/>
            <a:ext cx="43005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Arial Black"/>
              </a:rPr>
              <a:t>ESPRESS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99072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uon _________, Matteo.  Come sta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ne grazie, e ______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Bene, grazie.  __________ qualco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i, ______ co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________ le lettere.  Cerca la “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ccola ______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___________ bene!  Cerca la “r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r” come 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____________________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Grazi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04920"/>
            <a:ext cx="2438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ll in the bla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14800" y="304920"/>
            <a:ext cx="43005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ESPRESS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1066680"/>
            <a:ext cx="70866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erca le lett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733920"/>
            <a:ext cx="70866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ccola qu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5562720"/>
            <a:ext cx="708660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” come ran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6668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4290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533412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288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14800" y="304920"/>
            <a:ext cx="430056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ESPRESS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3657600" y="1219320"/>
            <a:ext cx="33526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zat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3124080"/>
            <a:ext cx="33530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i la por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4495680"/>
            <a:ext cx="33530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udi la por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5791320"/>
            <a:ext cx="33526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g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934320" y="1219320"/>
          <a:ext cx="146196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219320"/>
                    <a:ext cx="146196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981080" y="2895480"/>
          <a:ext cx="104004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895480"/>
                    <a:ext cx="104004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8076960" y="4343400"/>
          <a:ext cx="43164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76960" y="4343400"/>
                    <a:ext cx="43164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523880" y="5715000"/>
          <a:ext cx="719280" cy="84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5715000"/>
                    <a:ext cx="7192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4191120" y="297180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4419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55627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629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18:33:48Z</dcterms:created>
  <dc:creator>Preferred Customer</dc:creator>
  <dc:description/>
  <dc:language>en-US</dc:language>
  <cp:lastModifiedBy>Preferred Customer</cp:lastModifiedBy>
  <cp:lastPrinted>2003-03-31T18:48:18Z</cp:lastPrinted>
  <dcterms:modified xsi:type="dcterms:W3CDTF">2003-04-01T03:18:21Z</dcterms:modified>
  <cp:revision>5</cp:revision>
  <dc:subject/>
  <dc:title>No Slide Title</dc:title>
</cp:coreProperties>
</file>